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5EB6-C0E8-4750-9F0E-16FA2878C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450D-32CD-4EC2-AE47-69C7B4DF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6AB-0870-405F-A1EB-E21AA974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AEBB-AB0A-4D7B-9B48-14099D8D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2F5-9546-4F74-91A2-C003A7A4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CB0-3A72-4F90-B74F-7B5C4DE7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619-F213-44F4-9B7F-BE669E8E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EAF-E39F-4644-8508-5CFC313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8FC-4359-4B80-8294-E3DC3D30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0867-F82B-402A-99F2-2A44197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459-33F8-4DAB-AB71-7D39255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368B-9934-446A-91F5-CD673E55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C35-5704-4A0F-983F-EAE3A64A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1F93-2B55-4A3C-83D9-C5628FB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DBA4-1B71-4C4F-AEAF-D4486C7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585-8D39-45B7-BEBB-CAF7997C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BB63-230F-43B2-8BCF-C2E2EFD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2604-4B7F-46BF-AFF9-3D36E83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ED54-DE9D-40DA-BFC8-C118426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8966-5318-464F-AB44-E2120C1E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FFC6-9A26-47C7-ADA8-B1B78016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D42D-C163-4004-901F-F800F02B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2CE7-C438-4E27-A2F1-5ECF703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AF0A-9F7E-4B2D-8D3E-41986325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8968-A6C5-408C-81FF-A6676970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FE01-9C28-42D9-BF51-83718EAF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F07-70A7-427D-A2DD-DCBA688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3B4A-08D1-4A36-92BA-F1BD6288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5671-BD10-4B81-A066-956DCB33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82F0-78F6-433A-AC1E-9E9A3E3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C74A-ADFB-4518-B133-B60882C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DFB7-0E14-4395-B75B-D1109FC5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E4E1-5BAE-4D9E-9EFA-2657E569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DC44-E8E8-484A-B618-7EF783FF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4BF6-2FAF-4042-83D5-AE45DF74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688A-0E37-4EF4-906A-6A53E278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3495-7C1E-4469-B3C5-9509FA7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5D0-BC78-4F3B-96D6-E61F768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45AF-8E02-41F4-B0E1-20FE9642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8C53-4F7D-47DA-95EA-F25F18A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7061-719E-4B87-A123-9943F15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E8AC-BCFE-4FF1-943C-77541D0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5351-8C03-49FD-AF7D-570ED6D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DEEB-7F12-4780-A0BF-7B0AD22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3A01-293D-4F77-93BE-CFABD8A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C58D-0470-4168-9336-FB987BF3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7FF0-E8BA-453D-AD27-BFCA180A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F466-27EF-4750-AE7F-73A13D8B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D36-A5FE-42E6-A7F3-6217A94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2D7A-6836-4E61-BE3D-3D47E3A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AE951-9BF6-441B-BE10-7C0A5E2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DD46-F10A-436B-BF28-DB3AD7E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B925-056B-4D29-AA3B-31249AB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595C-A794-4AE2-B7F3-CF5C7193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3C4D-ADCE-4587-93F0-69820F1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FFD8-1815-4BD0-A08E-CE6C0F7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C65D-AAC9-4651-8677-6585BF2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FCF4-5497-4223-8F29-09ED384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D5B3-4301-49A6-B9AC-CD693F4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AE4-2154-46E5-8DC7-F9792E1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2681-029C-44AA-AAE8-1AE3C494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58F79-DC04-4A09-8B82-8D183CA3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663E1-A31C-4073-9193-B07AD398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4D6D-4BA2-4D24-A085-C9CA4AA7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A251-E09D-4069-94FE-AC137B1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2848-F076-438A-812C-3FC2778F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E713E-9826-4CD8-B465-9871A71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7975-D4BA-4A27-A20A-A104B99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9E6D-3433-40F9-9EF3-004729A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F59AB-C08C-4359-8ABF-EE048AE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2F8-C693-4C0B-B49D-4914AB3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3FFF-093B-4BF3-A3FF-32394191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EA67-5707-4C4D-BB7C-94F028A7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691C9-BE17-4DEC-AD69-1CEBFAC2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F8F8-1D1C-4521-A237-6B03D955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44C6-15BE-47F8-B372-76DE606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90FB-B4D9-449C-83AE-C8CD746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397E-F465-4966-A65C-60DB0D1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21E9F-0A53-4D81-BFCF-8E0B204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25E4-AB07-4E53-B73D-13EE83A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06415-B953-4F20-B62E-DBCFC0D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0AC-C117-4AB8-A503-B35FBCF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57A2-B8CB-4F3D-A217-29F1509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43F01-D925-4AEA-893D-E86ED85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102E7-3040-4FF4-9F40-74B6BE7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12E8-62DD-4312-A676-49B6F29E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B9A53-C9CA-47C1-B1AC-C3FD1190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C68-A010-4013-AA22-C1690C4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2CA-549E-46A9-8E4A-C61930B106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060-86FD-4448-B600-A842E06C8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976A-8429-4641-BDA2-734BA9F18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CB4-CFAB-401E-9C7A-BC15B159457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EED-661E-4B43-8F94-C8CD5777CD6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15E3-9A66-4360-ABDF-46E0C344F31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5E7-1A61-4896-A968-E116F5CF168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NG 201 Introduction to Literature   Prof. Ever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301680" y="2895480"/>
            <a:ext cx="854064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ociety unworthy of hum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talitarian state / empires 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1984, Star Wars serie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mental derailment or degeneration (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Fahrenheit 451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ost-apocalyptic (after end of life on earth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cho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freedo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alternativ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36" name="Content Placeholder 2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cial restri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er-egalitarian – no excell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ly 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ligion as contr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mily non-exist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ty / Natu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litics / Contr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40179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380880" y="3581280"/>
            <a:ext cx="44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dentif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f Science Fiction that you see in the stor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type of Science Fiction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this story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dystopia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utopian or neith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Realistic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Fiction set in a time remote enough from the present to be considere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histor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ten in a time period in which the author ha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lived 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more recently than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one gener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before its composition 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0 years ag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torical facts mix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imaginar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characters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tual historical ev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hentic period setting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l historical figures (peopl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2" action="ppaction://hlinksldjump"/>
              </a:rPr>
              <a:t>Most Common</a:t>
            </a: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in characters of the story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imaginar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condary characters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may be actual historical figur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ctual historical events are imbedded – part of the plot but not main focus of the narrativ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3" action="ppaction://hlinksldjump"/>
              </a:rPr>
              <a:t>2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4" action="ppaction://hlinksldjump"/>
              </a:rPr>
              <a:t>nd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5" action="ppaction://hlinksldjump"/>
              </a:rPr>
              <a:t> Type</a:t>
            </a: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ast described complete with social traditions, customs, morals, &amp; values of the period – exact details of the period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No mention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actual historical events nor actual historical figures as characters – it is only a historica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orbel"/>
                <a:hlinkClick r:id="rId6" action="ppaction://hlinksldjump"/>
              </a:rPr>
              <a:t>3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7" action="ppaction://hlinksldjump"/>
              </a:rPr>
              <a:t>rd</a:t>
            </a:r>
            <a:r>
              <a:rPr b="0" lang="en-US" sz="2600" spc="-1" strike="noStrike" u="sng" baseline="30000">
                <a:solidFill>
                  <a:srgbClr val="168bba"/>
                </a:solidFill>
                <a:uFillTx/>
                <a:latin typeface="Corbel"/>
                <a:hlinkClick r:id="rId8" action="ppaction://hlinksldjump"/>
              </a:rPr>
              <a:t> Type: Historical Fantas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istorical story containing elements of fantas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7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ime warp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7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upernatural features/ghost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6320" y="182844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atch this example of historical fi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52452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380880" y="3581280"/>
            <a:ext cx="371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dentif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characteristic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 Historical fiction that you see in the mov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orm of historical fic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this movie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 prepared to answer questions about Science Fiction and Historical Fiction based on this Lectu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finition/ purpo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2280" y="2819520"/>
            <a:ext cx="8610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cience Fiction – is a genre of fiction that only recently has been given scholarly atten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urt Vonnegut once called the designation "Science-Fiction writer" a sort of "file-folder label or pigeonhole" and complained that most literary critics mistook the file label for "for a urinal." Apparently "the way a person gets stuck into this file," Vonnegut went on to say, "is to notice technology."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e was referring  to the fact that at one time SciFi was considered a vulgar form of pop entertainment--a robots-and-flying-saucers pulp genre just a notch above (or below) the comic book. What  Cosmopolitan magazine is to high-gloss journalism, SciFi was to serious literatur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1143000" y="1996920"/>
            <a:ext cx="670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nds toward the hypothetical and has a decidedly more prophetic or apocalyptic goal. The Science Fiction  writer is more interest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uture scenario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vivid alternativ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with provocative extrapolations and exciting possibilities, than with the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naturalistic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realistic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anscription of current circumstances. In short, true science fiction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visiona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writing about science, technology and social chang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dous Huxle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rave New Worl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3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mes Hilton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Lost Horizon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3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. F. Skinner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alden Two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4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rge Orwell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198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4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y Bradbur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ahrenheit 45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5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dous Huxley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slan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196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ip K. Dick –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o Androids-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, 196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228600" y="152388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Fantasy adventur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the action defies belief or exceeds ordinary experience--e.g., tales of improbable events, strange creatures, supernatural occurrences, and imaginary settings. Precursors of this particular type of SF include ancient and classical myths and legen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Utopian (or Dystopian) Fic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imaginative fiction (usually set in a faraway place or in the distant past or future) that depicts a world whose political organization, technical resources, or social and moral cod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strikingly differen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han our ow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xotic Travel Narratives, "Fantastic Journeys," and Esoteric Text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Supposedly true (!) accounts of travel or adventure or of scientific or occult investiga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380880" y="1752480"/>
            <a:ext cx="8534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Moral Parables and Philosphical Tal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stories that satirize or challenge conventional beliefs, institutions, or social practices by positing radically different societies or alternative worlds. Examples: Voltaire,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andid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1759). Also, stories that address the question of social change or the implications of social theori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"Disaster Fiction" and Apocalyptic 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Fictional unveiling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earth's destin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 Runs the gamut from visions of universal harmony and prosperity to fully imagined end-of-the-world scenarios--both naturally caused (e.g. a comet, a deadly disease) and man-made (e.g., nuclear war, a biogenetic accident, etc.). For decades a favorite sub-genre of Hollywood and TV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Plac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 of the good socie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realistic daydre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omas More, 151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Utopia  - island in the Atlan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ood Plac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biguity of te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eam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"/>
          <p:cNvPicPr/>
          <p:nvPr/>
        </p:nvPicPr>
        <p:blipFill>
          <a:blip r:embed="rId2"/>
          <a:stretch/>
        </p:blipFill>
        <p:spPr>
          <a:xfrm>
            <a:off x="4114800" y="3852720"/>
            <a:ext cx="50292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deal place /no-pl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52280" y="2895480"/>
            <a:ext cx="822960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rt - expres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nsumerism – brings happi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ime – energy &gt;&gt;is control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cial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nishment – justice is serv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omen / Sex &gt;&gt; often sexual freedom in earlier narrati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ducation and upbringing- is consistent with social valu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istorical develop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506520" y="2743200"/>
            <a:ext cx="7924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arly English writers include Thomas More,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Utopia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(1516)  and Francis Bacon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 New Atlantis (1624, English version 1627) –both written in Latin – the language of scholarship back then of course –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part of the Renaissance philosophical and literary movement in Europ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surgence  of interest in narratives of utopia in lat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century – much of it in relation to the movement for rights of man / equal rights – especially among the French revolution: Mercier’s  L’ans 2440  of 1772 in French (English title: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Memoirs of the Year 2500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1772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frican American , women , an d progressive writers took up utopian speculation for the future  -- especially late 188s-1920s – during period of social engineer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02:03:47Z</dcterms:created>
  <dc:creator>Sally Everson</dc:creator>
  <dc:description/>
  <dc:language>en-US</dc:language>
  <cp:lastModifiedBy>Sally Everson</cp:lastModifiedBy>
  <dcterms:modified xsi:type="dcterms:W3CDTF">2011-11-09T02:02:24Z</dcterms:modified>
  <cp:revision>22</cp:revision>
  <dc:subject/>
  <dc:title>Science Fiction / Historical Fiction</dc:title>
</cp:coreProperties>
</file>